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EA6-B022-4DE6-A1A9-D96B10EC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F5A-E469-4122-A4CE-1B23DB09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CD6-8426-4F1A-81F7-3EB231C5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F5A-EB3E-423B-B7E8-F2D70B55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091-0DA7-46E9-BD76-87C403FC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DF2-6B22-4B22-8759-E88AAD13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5C5-4860-4E7A-A96A-445CBE90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25B-66CA-4272-9EE3-F1A236C0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56E-6B26-436B-AFC2-E67CABA9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F3D-D061-4324-8681-E4E9A336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180-E741-4E38-819D-AC9BF1E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0AE-EEA3-4128-8552-A582C7B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6772-1C8E-463F-B66C-74B75BD1A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naismith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81480" y="502920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,27, Apr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609480"/>
            <a:ext cx="79250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752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sketball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752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2010,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667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Basketball (Game), May 10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.mit.edu/invent/iow/naismit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Naismith"/>
          <p:cNvPicPr/>
          <p:nvPr/>
        </p:nvPicPr>
        <p:blipFill>
          <a:blip r:embed="rId2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62520" y="649116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invention is a fun thing for a di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000066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basket ball was invented in 19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the game even better they invented the backboard in 189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y invented the metal rim in 18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basketball was made lighter in to increase speed and accuracy in 19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05120" y="0"/>
            <a:ext cx="5333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vention:Basketball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Naismith was born in November 6, 1861 in Almonte,On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 parents died of typhoid fever. He lived with his grand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his grandparents died he moved in with his un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when he was in college he was announced 1 of the top 10 athletes in th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he decided to make a game and so basketball wa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533520"/>
            <a:ext cx="73152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lin ang="13500000"/>
                </a:gradFill>
                <a:latin typeface="Arial Black"/>
              </a:rPr>
              <a:t>Inventor: James Naismi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16Z</dcterms:created>
  <dc:creator>install</dc:creator>
  <dc:description/>
  <dc:language>en-US</dc:language>
  <cp:lastModifiedBy>install</cp:lastModifiedBy>
  <dcterms:modified xsi:type="dcterms:W3CDTF">2010-05-12T17:35:05Z</dcterms:modified>
  <cp:revision>7</cp:revision>
  <dc:subject/>
  <dc:title>Slide 1</dc:title>
</cp:coreProperties>
</file>